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60F-0077-47AA-9DD8-346FC870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680-DDFC-4EDE-AC20-E5C4E321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F96-603C-40F7-AA8D-83C863DE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6BA-9CB8-4EAB-AE4A-5E859834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F41-E146-416D-BAD5-DD35DA42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D2A-3A4F-4DDA-9B31-6D6DB2A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FB8-0265-44EA-8721-669C7047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E08-D4E7-4108-923F-CABEE527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A40-74F3-447B-9D3E-2A760C13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527-6C6A-445F-8E74-C66849C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712-B0FC-4B01-ABFB-CD29C18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00A-E7FD-4B79-B942-7EFA4A9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343-6A4D-4331-B6FA-27754670D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762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Readers look for and recognize the things writers do when they are writing a featur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Using your feature articles, in groups of two or three, make a list of the elements you notice.</a:t>
            </a:r>
            <a:r>
              <a:rPr b="0" lang="en-US" sz="4400" spc="-1" strike="noStrike">
                <a:solidFill>
                  <a:srgbClr val="ff9406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Let’s talk about the characteristics we notice as we read feature articles.</a:t>
            </a:r>
            <a:r>
              <a:rPr b="0" lang="en-US" sz="4400" spc="-1" strike="noStrike">
                <a:solidFill>
                  <a:srgbClr val="ff633f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have topics that could happen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are about animals, people, places, or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inform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make the reader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Feature Articl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show the writer’s point of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know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care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show excitement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that they know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that they care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excitement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02:25Z</dcterms:created>
  <dc:creator>AAPS</dc:creator>
  <dc:description/>
  <dc:language>en-US</dc:language>
  <cp:lastModifiedBy>AAPS</cp:lastModifiedBy>
  <dcterms:modified xsi:type="dcterms:W3CDTF">2005-10-20T00:12:05Z</dcterms:modified>
  <cp:revision>16</cp:revision>
  <dc:subject/>
  <dc:title>FEATURE ARTICLE CHARACTERISTICS</dc:title>
</cp:coreProperties>
</file>